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306-97FB-41AE-83CF-9DC1174D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06C-C4CA-4ECB-A86D-64E06153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C17-8428-4209-BB1D-7F0E8575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13B-EA0C-45B7-8332-770DA66E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DF3-5AC4-41B1-8485-CC2EC89A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6D3-F313-4BA1-8487-0C47AF7B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3D5-387D-4BBE-9802-2137992C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E89-6E16-48BA-BDBA-FAAB0D07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51E-93B8-46C0-998C-4121155B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74D-949E-434B-8A78-813DD830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EA9-4C89-445C-8B9A-945C2EBD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3AA-4B7E-415E-998B-84CB1BB5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80BA-D266-4567-8D0E-FE396599E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916280"/>
            <a:ext cx="864072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S AVENTURAS  D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LIS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3816360" cy="2794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076720" y="3860640"/>
            <a:ext cx="3735360" cy="2708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627280" y="3141720"/>
            <a:ext cx="4154400" cy="89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S SIRENA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on su dulce melodía atraen a las personas hasta la mue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08000" y="333360"/>
            <a:ext cx="554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ESCILA Y CARIBDIS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5876640"/>
            <a:ext cx="9145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los estrechos de los mares son peligrosos, y en ellos se esconden criaturas monstruo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457440" cy="1746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0" y="6021360"/>
            <a:ext cx="898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ACAS SAGRADAS DEL DIOS HELIO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lises pasó un largo tiempo con la ninfa Calip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4221000"/>
            <a:ext cx="3241800" cy="2422800"/>
          </a:xfrm>
          <a:prstGeom prst="rect">
            <a:avLst/>
          </a:prstGeom>
          <a:ln w="38160">
            <a:solidFill>
              <a:srgbClr val="cc0000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7" name=""/>
          <p:cNvSpPr txBox="1"/>
          <p:nvPr/>
        </p:nvSpPr>
        <p:spPr>
          <a:xfrm>
            <a:off x="2050920" y="692280"/>
            <a:ext cx="5616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A NINFA CALIPSO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811840" y="189000"/>
            <a:ext cx="333216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SLA DE 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FEAC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763640" y="404640"/>
            <a:ext cx="5761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ffcc00"/>
                </a:solidFill>
                <a:effectLst>
                  <a:outerShdw dist="107932" dir="8100000" blurRad="0" rotWithShape="0">
                    <a:srgbClr val="3399ff">
                      <a:alpha val="50000"/>
                    </a:srgbClr>
                  </a:outerShdw>
                </a:effectLst>
                <a:latin typeface="Arial Black"/>
              </a:rPr>
              <a:t>EL REGRESO A ÍTACA</a:t>
            </a:r>
            <a:endParaRPr b="0" lang="en-US" sz="1800" spc="1" strike="noStrike">
              <a:ln w="28440">
                <a:solidFill>
                  <a:srgbClr val="ff6600"/>
                </a:solidFill>
                <a:miter/>
              </a:ln>
              <a:solidFill>
                <a:srgbClr val="ffcc00"/>
              </a:solidFill>
              <a:effectLst>
                <a:outerShdw dist="107932" dir="8100000" blurRad="0" rotWithShape="0">
                  <a:srgbClr val="33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03280" y="5516640"/>
            <a:ext cx="60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 BATALLA DE TROYA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51280" y="85680"/>
            <a:ext cx="5292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SLA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LOS CIC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3117600" cy="3124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76720" y="1773360"/>
            <a:ext cx="3573720" cy="289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280" y="5589720"/>
            <a:ext cx="7993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La flor de loto tiene unos efectos alucinógenos cuando la toma un ser hum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19280" y="620640"/>
            <a:ext cx="612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6600cc"/>
                  </a:solidFill>
                  <a:miter/>
                </a:ln>
                <a:solidFill>
                  <a:srgbClr val="cc66ff"/>
                </a:solidFill>
                <a:latin typeface="Arial Black"/>
              </a:rPr>
              <a:t>LA FLOR DE LOTO</a:t>
            </a:r>
            <a:endParaRPr b="0" lang="en-US" sz="1800" spc="1" strike="noStrike">
              <a:ln w="38160">
                <a:solidFill>
                  <a:srgbClr val="6600cc"/>
                </a:solidFill>
                <a:miter/>
              </a:ln>
              <a:solidFill>
                <a:srgbClr val="cc66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176720" cy="47512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03760" y="1557360"/>
            <a:ext cx="3925800" cy="47512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50" name=""/>
          <p:cNvSpPr txBox="1"/>
          <p:nvPr/>
        </p:nvSpPr>
        <p:spPr>
          <a:xfrm>
            <a:off x="324000" y="0"/>
            <a:ext cx="8496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6633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L CICLOPE ANTROPÓFAGO POLIFEMO</a:t>
            </a:r>
            <a:endParaRPr b="0" lang="en-US" sz="1800" spc="1" strike="noStrike">
              <a:ln w="38160">
                <a:solidFill>
                  <a:srgbClr val="6633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41120"/>
            <a:ext cx="8642160" cy="648504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2" name=""/>
          <p:cNvSpPr txBox="1"/>
          <p:nvPr/>
        </p:nvSpPr>
        <p:spPr>
          <a:xfrm>
            <a:off x="250920" y="333360"/>
            <a:ext cx="396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DIOS EO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79280" y="333360"/>
            <a:ext cx="87346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ATAQUE DE LOS LESTRIG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00000" y="6308640"/>
            <a:ext cx="77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vierte a todo ser humano en an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24000" y="5300640"/>
            <a:ext cx="46245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A MAGA CIR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4360" y="404640"/>
            <a:ext cx="763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 Black"/>
              </a:rPr>
              <a:t>BAJADA A LOS INFIERNO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57:08Z</dcterms:created>
  <dc:creator>MIGUEL</dc:creator>
  <dc:description/>
  <dc:language>en-US</dc:language>
  <cp:lastModifiedBy>MIGUEL</cp:lastModifiedBy>
  <dcterms:modified xsi:type="dcterms:W3CDTF">2010-11-08T15:05:47Z</dcterms:modified>
  <cp:revision>15</cp:revision>
  <dc:subject/>
  <dc:title>Diapositiva 1</dc:title>
</cp:coreProperties>
</file>